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38D-7957-48A4-ADDA-274E6F1F5B8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reads out the definitions and MUST keep a record of the word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563-42D9-4978-98E0-6291A9D0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CCD-7610-4AAE-BB90-2A0768B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C40-2E8A-4E94-A4B2-93B8B465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F2B-4B5B-4CD6-845D-04DCC712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D59A-CA5E-4251-A7C4-8B70555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6C2-66AC-4678-BACD-1364C45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DFF-4DAF-471D-8776-C289123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0BDF-12C9-4646-8EF5-742D8C24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C4C7-237D-46C5-BBAA-197AEC7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C9AA-33CE-425A-A346-FE3ADF65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278-A313-4648-A9F7-87AF4DE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529-1872-47B0-BD4C-9DD8C78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52A8-5C05-40C9-A3BB-4CA72ED1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4B6A-9D02-40D9-A01A-07C5096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13F-324A-4A58-BDD8-132CEEA6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2FBD-3E7A-4125-99BE-B106AD6C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1EE-943A-4D6C-9D30-6722F08E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5F-F1D3-482F-8605-783FB31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B0C-7D73-407F-B717-CABE3703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EBB-435D-493D-81FB-A1C3AF6D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0A4-8111-4FB8-A42D-6BEFBC8F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5EB-9A6F-4804-B74A-FFAF312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C68-2984-48E8-B5FD-828D87F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36F-611F-420F-97B3-2BE03D9B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635-E4CB-4025-9A98-7A3536977C8B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19A-1127-43EE-B5A3-226E71467541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371600"/>
            <a:ext cx="7010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rective Terms Bing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Draw up a table with three columns and rows </a:t>
            </a:r>
            <a:r>
              <a:rPr b="0" lang="en-GB" sz="2800" spc="-1" strike="noStrike">
                <a:solidFill>
                  <a:srgbClr val="006633"/>
                </a:solidFill>
                <a:latin typeface="Garamond"/>
              </a:rPr>
              <a:t>and put a directive term from the following slide in each of the 9 boxes on your bingo card</a:t>
            </a:r>
            <a:br>
              <a:rPr sz="2800"/>
            </a:br>
            <a:br>
              <a:rPr sz="3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sure you know what that word means because you need to know to wi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t BINGO when you have a line or a FULL HOU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828800"/>
          <a:ext cx="5257440" cy="1980720"/>
        </p:xfrm>
        <a:graphic>
          <a:graphicData uri="http://schemas.openxmlformats.org/drawingml/2006/table">
            <a:tbl>
              <a:tblPr/>
              <a:tblGrid>
                <a:gridCol w="1752840"/>
                <a:gridCol w="1752120"/>
                <a:gridCol w="175248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hoose 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9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 directive terms from the following 14 below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count            Analyse                 Critically   Define             Demon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cribe                  Discus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nguish                          Evaluat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lain                                        Identify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ustify             Outlin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ommen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GM</dc:creator>
  <dc:description/>
  <dc:language>en-US</dc:language>
  <cp:lastModifiedBy>Shore</cp:lastModifiedBy>
  <dcterms:modified xsi:type="dcterms:W3CDTF">2009-02-27T02:12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